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E8DE-BAD9-45D2-897F-76CFE2F82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95B1-AD4D-48A7-B412-130C0EC52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5528-F4CE-4228-BEA3-210EF8409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E4AC-18F4-4EF5-A5DC-6ED1393AD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C87D-D864-4609-AB20-60EC8DD65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4BC-9022-42BD-B987-5F59FA0B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ED7C-DC68-4B20-BEEB-08B0A424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9578-245E-4918-9861-B7B8DFE0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406-8908-43EA-9526-F721983C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C19-123D-43EA-A66A-0625583D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4CD-0BB2-454B-9AA7-C753D982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6B4-D0B4-43F9-A27A-B33BC477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C6E-2635-4718-BB94-415B5A05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116-AB3C-4A09-8497-A5C499C0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12C-F5F8-494B-BE68-7A6049B5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C026-3014-4E79-A7CA-F9F49C62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63C-966E-4E38-BB2D-B0959ABE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6158-7B79-42EC-924E-71C2240B2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dford County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416556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2571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181480" y="0"/>
            <a:ext cx="3962520" cy="26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4"/>
          <a:stretch/>
        </p:blipFill>
        <p:spPr>
          <a:xfrm>
            <a:off x="5181480" y="4219560"/>
            <a:ext cx="39625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dford Springs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lace in America to have an Olympic sized poo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 James Buchanan made this his, “summer White Hou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in 1806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were coming to the Springs to drink the curative wate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y H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in the suburbs of New Paris, P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s roll uphill and water flows the wrong wa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 30 West.  Turn right at the traffic light in Schellsburg.  Drive four miles and make a left onto Bethel Hollow Road.  Keep going straight and you will reach Gravity 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49532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Bedf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51, Robert Ray constructed a log cabin and established a settlement along the Juniata River for the purpose of trading goods, such as pelts and furs, with the India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ea became known as Rays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758, the advance guard of the army of General Forbes built a fort at Raystown during the French and Indian Wa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Bedford (Part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 was changed to Fort Bedford in honor of the Duke of Bedford of Bedfordshire,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Bouquet is credited with the placement and construction of Fort Bedfor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 Bedford played a vital role in the French and Indian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fort aided the British to capture Fort Duquesne from the Fren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n of Bedf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w up around and in support of the fort, became a growing community in the mid-176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eets and alleys were laid out with four of the streets named after William Penn’s children: Richard, Juliana, Thomas, and Joh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Pennsylv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0" y="236232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1536840" y="977760"/>
            <a:ext cx="7607160" cy="5880240"/>
          </a:xfrm>
          <a:prstGeom prst="rect">
            <a:avLst/>
          </a:prstGeom>
          <a:ln w="0">
            <a:noFill/>
          </a:ln>
        </p:spPr>
      </p:pic>
      <p:cxnSp>
        <p:nvCxnSpPr>
          <p:cNvPr id="64" name="Straight Arrow Connector 12"/>
          <p:cNvCxnSpPr/>
          <p:nvPr/>
        </p:nvCxnSpPr>
        <p:spPr>
          <a:xfrm>
            <a:off x="1219320" y="2590920"/>
            <a:ext cx="3124800" cy="25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TextBox 14"/>
          <p:cNvSpPr/>
          <p:nvPr/>
        </p:nvSpPr>
        <p:spPr>
          <a:xfrm>
            <a:off x="0" y="1523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o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6"/>
          <p:cNvCxnSpPr/>
          <p:nvPr/>
        </p:nvCxnSpPr>
        <p:spPr>
          <a:xfrm>
            <a:off x="1371240" y="1904760"/>
            <a:ext cx="289620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TextBox 18"/>
          <p:cNvSpPr/>
          <p:nvPr/>
        </p:nvSpPr>
        <p:spPr>
          <a:xfrm>
            <a:off x="8640" y="38862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ts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20"/>
          <p:cNvCxnSpPr/>
          <p:nvPr/>
        </p:nvCxnSpPr>
        <p:spPr>
          <a:xfrm>
            <a:off x="1600200" y="4114440"/>
            <a:ext cx="9914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TextBox 22"/>
          <p:cNvSpPr/>
          <p:nvPr/>
        </p:nvSpPr>
        <p:spPr>
          <a:xfrm>
            <a:off x="9000" y="61722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ris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24"/>
          <p:cNvCxnSpPr/>
          <p:nvPr/>
        </p:nvCxnSpPr>
        <p:spPr>
          <a:xfrm flipV="1">
            <a:off x="1447920" y="4723560"/>
            <a:ext cx="4420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4267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dford Cou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626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9000" y="121932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r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6"/>
          <p:cNvCxnSpPr/>
          <p:nvPr/>
        </p:nvCxnSpPr>
        <p:spPr>
          <a:xfrm>
            <a:off x="989640" y="1752120"/>
            <a:ext cx="1524600" cy="442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TextBox 9"/>
          <p:cNvSpPr/>
          <p:nvPr/>
        </p:nvSpPr>
        <p:spPr>
          <a:xfrm>
            <a:off x="1455840" y="10666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b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11"/>
          <p:cNvCxnSpPr/>
          <p:nvPr/>
        </p:nvCxnSpPr>
        <p:spPr>
          <a:xfrm>
            <a:off x="2208600" y="1523520"/>
            <a:ext cx="686520" cy="350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TextBox 14"/>
          <p:cNvSpPr/>
          <p:nvPr/>
        </p:nvSpPr>
        <p:spPr>
          <a:xfrm>
            <a:off x="2976480" y="11430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16"/>
          <p:cNvCxnSpPr/>
          <p:nvPr/>
        </p:nvCxnSpPr>
        <p:spPr>
          <a:xfrm flipH="1">
            <a:off x="3504600" y="1828440"/>
            <a:ext cx="76680" cy="33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TextBox 18"/>
          <p:cNvSpPr/>
          <p:nvPr/>
        </p:nvSpPr>
        <p:spPr>
          <a:xfrm>
            <a:off x="3973320" y="129528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nting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20"/>
          <p:cNvCxnSpPr/>
          <p:nvPr/>
        </p:nvCxnSpPr>
        <p:spPr>
          <a:xfrm flipH="1">
            <a:off x="4037760" y="1828800"/>
            <a:ext cx="686520" cy="358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TextBox 22"/>
          <p:cNvSpPr/>
          <p:nvPr/>
        </p:nvSpPr>
        <p:spPr>
          <a:xfrm>
            <a:off x="6177960" y="12952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24"/>
          <p:cNvCxnSpPr/>
          <p:nvPr/>
        </p:nvCxnSpPr>
        <p:spPr>
          <a:xfrm flipH="1">
            <a:off x="3961800" y="1828800"/>
            <a:ext cx="2515320" cy="449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TextBox 27"/>
          <p:cNvSpPr/>
          <p:nvPr/>
        </p:nvSpPr>
        <p:spPr>
          <a:xfrm>
            <a:off x="304920" y="639612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29"/>
          <p:cNvCxnSpPr/>
          <p:nvPr/>
        </p:nvCxnSpPr>
        <p:spPr>
          <a:xfrm>
            <a:off x="1447920" y="6248160"/>
            <a:ext cx="1829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TextBox 17"/>
          <p:cNvSpPr/>
          <p:nvPr/>
        </p:nvSpPr>
        <p:spPr>
          <a:xfrm>
            <a:off x="312480" y="586728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d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r did Fort Bedford play a vital r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and Indian Wa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Fort Bedford named after and what country was h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uke of Bedford (He was from Engl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wo of the four streets named after William Penn’s children. (Golf Sh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, Juliana, Thomas, and Jo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year was Fort Bedford built?  (1656, 1758, 18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dford Statistics/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dford County is 102 miles west of the state capital, Harrisbur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in 1890 = 2, 2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in 2000 = 3, 1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dford Statistics/ Fact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 marched his army to Bedford in 1794 to subdue the Whiskey Rebellion. (Stayed at the ESPY Ho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Y House is now Gardeners C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ls were angered by a tax on whisk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bellion was stopped as 12, 950 militiamen were called to Bedford leaving the rebels without many ch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00:21:39Z</dcterms:created>
  <dc:creator>Tom  Otis</dc:creator>
  <dc:description/>
  <dc:language>en-US</dc:language>
  <cp:lastModifiedBy>Tom Otis</cp:lastModifiedBy>
  <cp:lastPrinted>2009-11-20T01:21:06Z</cp:lastPrinted>
  <dcterms:modified xsi:type="dcterms:W3CDTF">2010-11-03T01:44:11Z</dcterms:modified>
  <cp:revision>18</cp:revision>
  <dc:subject/>
  <dc:title>Bedford County History</dc:title>
</cp:coreProperties>
</file>